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3DD-AF35-47E9-9056-B71A13D6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236-02D6-4039-8732-976D6053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A08-6B3E-4BD8-9FD4-4EB268B7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544-F9AB-4920-AF83-34EC2F39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77D2-317C-457F-B2B0-48F0F965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1C48-7986-453B-8FC5-2689C0D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FB9D-C855-4932-B39B-4A4FD738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9CC7-B6EA-41FF-A41B-279813C5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8BA0-1BD1-4B4B-B072-8637AD39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1E3-09FC-4B09-B370-BC06ED08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9850-565C-49A3-B510-518B84F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659-4DBE-4359-8BE2-79F321F3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60F-ACB1-401B-9F5E-EA15F86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5F67-8E43-4BD4-83E4-86FC2A0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B353-B2D1-4072-BE00-EACDC51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B7E0-7053-4304-90EB-D5D74F83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9DB2-E194-42C7-8B0D-0482116F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22F-3036-4306-A54C-BBA79811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996-0F5D-467B-98FD-121BFFB2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619-38CD-4596-93D5-F74E5F6B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E41-963F-4212-9940-4E7AE26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501-636B-458B-967F-A9D3D42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589-BFA3-45A9-B3CE-CBF4BFD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1F4-6592-44BC-AB7F-3A12DDBE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65A-FF32-4C02-BCC4-C6D67238D9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456B-453E-43F1-A6FF-51656E1280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adeaubarlow.com/wp-content/uploads/2011/10/111028-Guillotine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url?sa=i&amp;rct=j&amp;q=telescope&amp;source=images&amp;cd=&amp;cad=rja&amp;docid=APIYkSjZ3xLuqM&amp;tbnid=b9Vl3Iii9Ql2oM:&amp;ved=0CAUQjRw&amp;url=http%3A%2F%2Fwww.robinsdocksideshop.com%2Ftelescopes.htm&amp;ei=i-I5UbaJMoft2wXh-4DoBg&amp;bvm=bv.43287494,d.b2I&amp;psig=AFQjCNHEF1q8k3VI-V5sBFBI6J3Zscpl0w&amp;ust=13628344182690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url?sa=i&amp;rct=j&amp;q=declaration+of+independence&amp;source=images&amp;cd=&amp;cad=rja&amp;docid=eh6WKtQwymDzZM&amp;tbnid=qAwTVvhCWOYa_M:&amp;ved=0CAUQjRw&amp;url=http%3A%2F%2Fmyloc.gov%2FExhibitions%2Fcreatingtheus%2FDeclarationofIndependence%2FBattleJoined%2FExhibitObjects%2FFirstPrintedVersionofDeclarationofIndependence.aspx&amp;ei=VOM5UZjDJ-qy2gWlvICICQ&amp;bvm=bv.43287494,d.b2I&amp;psig=AFQjCNGF4aK6S5mb8tfXTQfkJ0Z89vgesQ&amp;ust=1362834617616656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aw this in your not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se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escription of im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think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Analyze the meaning, make infer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More Stages…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Reform: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 Scientist studied &amp; published their work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Suppress: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 Catholic Church found scientists like Galileo guilty of heresy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Change Realized: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 Ideas accepted from Scientific Revolution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iors of Sci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s Bacon (English writ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ed those who accepted the Church and Ancients without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iricism – must experiment &amp; obs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rancis_Bacon"/>
          <p:cNvPicPr/>
          <p:nvPr/>
        </p:nvPicPr>
        <p:blipFill>
          <a:blip r:embed="rId1"/>
          <a:stretch/>
        </p:blipFill>
        <p:spPr>
          <a:xfrm>
            <a:off x="6705720" y="419112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Bacon"/>
          <p:cNvPicPr/>
          <p:nvPr/>
        </p:nvPicPr>
        <p:blipFill>
          <a:blip r:embed="rId2"/>
          <a:stretch/>
        </p:blipFill>
        <p:spPr>
          <a:xfrm>
            <a:off x="0" y="41911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. . 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artes – “I think therefore I a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ientific Meth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/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ation required new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2" descr="MMj02347030000[1]"/>
          <p:cNvPicPr/>
          <p:nvPr/>
        </p:nvPicPr>
        <p:blipFill>
          <a:blip r:embed="rId1"/>
          <a:stretch/>
        </p:blipFill>
        <p:spPr>
          <a:xfrm>
            <a:off x="7620120" y="54100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ientific Met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&amp; 6 = “Scientific Method” 6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&amp; 5 = “Newton explains . . .” 6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&amp; 4 = “Revolution spreads . . .” 6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the section and pick presen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S: 4-5 bullet point notes (Hea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S: Election Poster for a key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ience takes selected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340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76880" y="1447920"/>
            <a:ext cx="3867120" cy="3867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873600"/>
            <a:ext cx="5105520" cy="298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84760" y="-4428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510552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86728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34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14600" y="3541680"/>
            <a:ext cx="5029200" cy="331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52760" cy="3267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27672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0"/>
            <a:ext cx="5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566892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cc"/>
                </a:solidFill>
                <a:latin typeface="Tahoma"/>
              </a:rPr>
              <a:t>Revolutions</a:t>
            </a:r>
            <a:endParaRPr b="0" lang="en-US" sz="6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Listen to the song and answer the questions on the back of the worksheet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624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28600"/>
            <a:ext cx="6172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say you want a revol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 all want to change the worl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tell me that it's evol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 all want to change the worl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t when you talk about destruc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you can count me ou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it's gonna be alrigh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right Alright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say you got a real sol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'd all love to see the pla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ask me for a contrib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're doing what we ca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t when you want money for people with minds that hat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l I can tell you is brother you have to wai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it's gonna be alrigh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right Alright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say you'll change the constit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 all want to change your hea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tell me it's the instit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better free your mind instea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t if you go carrying pictures of Chairman Mao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ain't going to make it with anyone anyh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know it's gonna be alrigh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right Alright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152280"/>
            <a:ext cx="38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es the band feel about the revolu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you tel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re some concerns/issues they hav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is conservative, liberal or too tough to tel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Look at your notes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What are the stages of a Revolu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Stages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 Question Status Qu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colonies want representation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Find flaw in status qu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No taxes w/o representation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Movement to reform (by middle clas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ea Party/Virginia Plan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ontinued…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. Movement to Suppress (by political power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tolerable Act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. Change is realized: Rev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dependence is declared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. Stages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176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? Status Quo: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? Ancient thinkers &amp; the Catholic Church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spcBef>
                <a:spcPts val="1176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Flaw: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Observation &amp; study showed old assumptions incorrect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0:55:32Z</dcterms:created>
  <dc:creator>Justin Amitage</dc:creator>
  <dc:description/>
  <dc:language>en-US</dc:language>
  <cp:lastModifiedBy>Administrator</cp:lastModifiedBy>
  <dcterms:modified xsi:type="dcterms:W3CDTF">2013-03-08T13:23:23Z</dcterms:modified>
  <cp:revision>17</cp:revision>
  <dc:subject/>
  <dc:title>Revolutions</dc:title>
</cp:coreProperties>
</file>